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  <p:sldId id="306" r:id="rId71"/>
    <p:sldId id="307" r:id="rId72"/>
    <p:sldId id="308" r:id="rId73"/>
    <p:sldId id="309" r:id="rId74"/>
    <p:sldId id="310" r:id="rId75"/>
    <p:sldId id="311" r:id="rId76"/>
    <p:sldId id="312" r:id="rId77"/>
    <p:sldId id="313" r:id="rId78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slide" Target="slides/slide51.xml"/><Relationship Id="rId72" Type="http://schemas.openxmlformats.org/officeDocument/2006/relationships/slide" Target="slides/slide52.xml"/><Relationship Id="rId73" Type="http://schemas.openxmlformats.org/officeDocument/2006/relationships/slide" Target="slides/slide53.xml"/><Relationship Id="rId74" Type="http://schemas.openxmlformats.org/officeDocument/2006/relationships/slide" Target="slides/slide54.xml"/><Relationship Id="rId75" Type="http://schemas.openxmlformats.org/officeDocument/2006/relationships/slide" Target="slides/slide55.xml"/><Relationship Id="rId76" Type="http://schemas.openxmlformats.org/officeDocument/2006/relationships/slide" Target="slides/slide56.xml"/><Relationship Id="rId77" Type="http://schemas.openxmlformats.org/officeDocument/2006/relationships/slide" Target="slides/slide57.xml"/><Relationship Id="rId78" Type="http://schemas.openxmlformats.org/officeDocument/2006/relationships/slide" Target="slides/slide58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0" y="0"/>
            <a:ext cx="67932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dt" idx="5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 type="ftr" idx="53"/>
          </p:nvPr>
        </p:nvSpPr>
        <p:spPr>
          <a:xfrm>
            <a:off x="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 type="sldNum" idx="54"/>
          </p:nvPr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22EEE9-02A2-4E73-888A-02074E6B892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AC8C5F-3FDE-43D5-9E49-067E493025BA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0CF9B3-2B1B-49E2-B446-5A05ADD9EA25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D969-B3E1-4109-8C7E-4114A8883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B353-2901-40D7-912D-2CAA286B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2F402-8D0E-4EDA-B0EF-1FC6AEF8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2C679-6B1D-4C27-844B-EFA80AFE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4B43B-47FA-42D1-A831-2056F7D3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1691B-3363-4914-9070-75FD5F05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B4758-ED31-465A-9DB1-D192712A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FFF90-85FA-402D-BB8E-E8BBDD46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EBEFA-683D-40A3-90EC-E9847222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69C55-BC38-4B54-9709-100E367E3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AD5C2-074B-4896-A534-A5EF6429A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0DAB6B-3CD7-4C8B-A778-E5BA070A3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4B24-73C0-46EB-8946-3FEBBF2CA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A8D801-AF6C-4838-B5C9-D146809B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377BA7-D1E9-4E66-B566-331473ED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A959EF-ADD6-4451-A19D-E0F9CA5A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6D8798-9DB1-4D66-AF13-E6BF4B3C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EF9BB5-52A7-4D52-8944-FF78217C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EA9043-AAC0-4DCA-BA32-8603C005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C06D1C-BE47-4667-A39A-4DA1EAE0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894113-4B40-46F7-8498-36B4630B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D2B23-824F-4941-B489-4A4F12F8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4A2FF3-44E9-45FE-96DB-AA8B11901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E291-E423-4A86-8D92-207FFEFBB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63B471-2D22-4CDD-8BB7-25EACA657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58069F-8494-45EC-B3AE-B24E61642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FFE809-EBAA-43B6-A95C-B48431B9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C22614-F044-45CC-BB6F-BB574449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4946C4-2CE6-4ED8-B550-A602481B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B23BBA-A749-4036-A500-A1944596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B04391-474D-4502-8AA6-1D538253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11C9F1-BCC0-4FF6-9F3B-21A105D4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B5CF0F-A5EA-46BF-8BD2-746A99CC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24FA5D-4E75-4502-B196-E0C415ED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5B63BB-C7B8-409D-B3F8-E9B5793E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6FD4A5-B80C-4703-A0A8-BC90FBC0E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D62700-3295-4D6A-A459-926A635E4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26D27B-BAEE-416A-A16E-440286108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FAFA3-0576-4594-94AF-9CB24B5F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A95B8-B8E3-42E8-985D-E4D12740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120CF-0266-473A-82C2-40A4743D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23A1CB-0AA2-49F4-A03F-20E4C15B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06FC2-D00D-44E6-9135-92363400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471D7-2A61-4C13-8641-B8FF9661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51E63-0412-430C-8556-14F167FB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CAEB55-3A11-4824-BE11-4390ED7E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CF94B1-DBA0-42AC-A27B-C0C3E873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DEEF8-8F93-4C98-BDE8-894A52CD7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5063D0-4DA9-4204-966C-37924B877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E000B4-FABE-49C2-A0FB-B03FE3E74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3A4FC7-7A16-4D41-919C-6B15AC41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8E055E-FE6A-43C0-ACFC-24533113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E5D72D-F8B6-40E1-A66B-1A92FDED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AE715C-EAE0-4EFB-8B1F-8F423260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625CE9-32D4-4C1D-9B80-759AECF1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20C918-F0B8-4FA9-AEC3-6D2C4D99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BB072B-EBE8-4C5A-85E6-686088D7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4220CB-4C1C-44BA-B097-AB35C4FB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7C5431-F884-4740-A2B3-12D91C41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F8DB56-F9F4-4686-B333-C82A53538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ECD2E2-B688-4324-BCD4-C11A9B2D0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D3986B-16A9-493D-B006-F04A3A4C3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2D1EA3-0564-47BA-A377-DCA3EA57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A0C7E3-05E5-4965-BAD5-11FA8EF1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79A2CD-B517-4688-9494-8E326DEB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8578A2-9B86-44C7-96D2-57E00DD9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E271F9-7823-4C64-A2CA-B47F54BE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EE07B0-3C1E-482C-BE1B-D6700446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2BD78D-4331-45B4-8765-45250113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2C20B3-72BF-41FB-9AC2-E1B4FE89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C88ED2-C4AF-4127-9460-4F12F36B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404DA3-3F40-4F5D-920D-CCC846525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224F85-5960-4F16-852D-DA366018F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09DC9C-F12C-4B2C-9128-0078C91F3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4A77F1-A173-40BC-8C87-6FCEA3EF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22C4CA-772F-45F3-B3B4-DC8AC729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22A969-BA84-49E1-95A5-6573416A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74CF79-C808-4C5C-AD6B-A7372BC7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2CD7CD-472E-485B-8AD9-638D91E5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0C3ADF-3D4D-4547-95BA-A1ABECA8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1149E0-30AE-4EC2-BA0E-7782222F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D23FE5-423A-4DB7-B552-00EA50D5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90E91D-7A7E-4858-92BB-22261D6D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49CD97-FA39-41F1-A438-B8A24DD1F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07120D-3D0A-42FD-8352-C47A044F5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0702E3-8994-4FF5-926A-A1ADDBC86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FBCFFA-4060-4E58-96DD-82D3FAFC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2673E1-6551-4BF4-9039-0AF811D0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B891BF-E02D-4833-9123-D054F300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0E1D82-85F5-468F-80A2-EE8ECECE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C62FD6-9F2D-4F8E-96D1-CD7F584F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ADFF04-E0DE-4807-AEE7-972201A1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E5052E-A9BB-4469-870A-1A0C14E7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492B08-8F77-4BC4-AA0C-47925606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63C65F-93C0-4A86-BC1C-8E2E67EE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DCFAB8-338D-47FD-8F13-6352987F1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ABBC99-21A5-4C5C-A7A5-5757F3747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B1C318-73D9-413F-AE83-4D0A2D55A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9145FB-E7BA-4E0F-BA00-B5B77357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2CDCF2-18C7-408E-9EBD-427540B5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AD587A-6B10-41D8-95A5-75DC481E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6D305A-1C6F-4F20-BE6A-40D6D152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3DA873-78BD-48D3-BB3A-AAFC19F2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5A3CE7-19FA-499A-AD5D-0D3B6904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3CD9-01B4-4116-9C7E-D87C3E0B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CEB4EB-C1F3-480A-A1B6-450997EE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3E8B71-6DAD-435A-B794-4A75758D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A1B53B-EC10-4BBC-B3C9-7E572CBE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5DE8CA-EB7A-480D-8A25-114560792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445BD9-5B75-4DD3-9BC4-06202D3CF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6E4321-1F1F-4141-A993-CF9093EA2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EF2FFE-659F-4B5B-B78D-87FFC1B5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55DD77-E9E0-452B-B437-9175D648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4FFAF8-5427-47E6-B1FF-2716777A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91B47A-AE39-4529-A715-B0F8E85F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84FFD9-8ECD-4BB6-BC7C-08B4587F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EA7588-C470-406C-B729-2CDAE52B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58C70B-4404-449C-877D-E3DDC0CF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C4875E-59FF-4206-AA0F-75C1517A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2AE678-3A4C-4632-AB8A-427B4117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9C1977-993A-45E3-897D-C27AC5DAD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703AAA-A985-472F-BF11-8E0133439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CF8C-7AC8-4414-A237-A8F93CC7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90C9-9ADC-4763-A175-897F5C72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E06C8-6B45-474D-9130-9939B4B46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D6AF-6F38-4BAE-BA24-D8D1C07B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FFD96-E2EE-4E1C-A614-CD55316C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50E7D-8F64-4F89-97E3-C45BC76E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6181C-508A-400F-A847-04DDEB0E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2B2DA-51D6-43AE-AEA2-D0BEDAA3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A576D-549F-4151-8608-49D77F51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60F6E-BF3B-44AE-86C0-417AAAE2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EAD96-563D-407C-A91B-A7B49562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B475C-9D33-476E-B0D2-7D1B273F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E152C-99E6-4D0D-8D71-C308661D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B2EF4-AFB5-493B-9857-3C40B44A2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6021-4F08-4999-BBD3-DCF2B8E2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CAECA-03B5-419C-9CBE-A44F2930D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9C1C3-11C6-43E8-B9E3-C787056B2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B3600-AE04-4C98-B64F-D50E32BC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B0F35-FFC1-4193-BE41-1A7BFA40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CE829-7050-4AAD-9AB6-6E1E29F6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4FA6D-7DB7-4B04-A8EC-BBA0C74D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E9AB2-0AF1-4747-9C29-4435C216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5DAD5-7A7A-45D6-A60F-38639589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1CB93-D85C-410D-940B-F30F9DEC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23E56-F1AB-44C7-AC72-35644357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FED3-7C09-4319-87F1-DA65CBB9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F855B-1339-4F73-AD66-270B6B6A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55AC2-3FE8-4395-A3D4-82482032E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050FE-1768-4741-877C-1D2B85375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5C671-C1A2-43DD-B34E-2C0546247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6A1E8-F121-4FBC-BF4F-46D91F1B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CB16C-329B-42D9-8726-1B9E323D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5059D-CF49-4A2F-A782-E2EE6FF0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50ACF-6DF0-44DC-A3F9-BAEAE673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92B56-001B-4A29-91BB-B1BE9A8A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09137-F0C5-4DBA-B068-4149BDD2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01A1-2EFC-4B5A-BD00-0A07FF90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C3285-5585-4765-8D25-476A1374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F707F-5FBB-4C59-91D9-BBD9C008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CBF49-FCDE-4383-B28B-1660222A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8F8A8-B15D-4B2C-86FF-F229A3EC1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B3741-48D2-435D-B18A-E833D9238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BA275-3F7C-4453-BDF7-63BB81134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AE1A0-20A9-4F84-BDE7-68BE1A80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3362F-2066-401A-A689-C5510106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C4C84-123B-40FA-8690-676E1E17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338E7-1CF6-4BC6-8CCA-0C09EC7A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386D-6429-4FDA-A013-370C066C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EB774-C181-4F16-B92F-E4696723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05FF6-4868-4D25-BD1F-037DAE93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C6747-7840-4AEF-8671-42D34BFC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71EB2-5A30-4B77-9523-3E05F635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1DC47-EECD-4E20-B995-7DA3DB76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5A34A-B7F1-4BD1-AE7A-2C8290596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859F0-81CE-429F-A045-BC4A14163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EB63E-F4AA-4DB1-B6F3-8015A4B18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42003-3696-4170-9052-24644EC3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00473-87AB-4ABE-9F1F-3433B348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5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C7FF-EAE3-4E08-8A15-4871BA0F359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7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7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3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8933-C466-45EE-BD03-DC1DFDE7735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D07A-D623-4209-86AB-03A5A9786C4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0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421B-EB82-4417-8542-822197B1F0E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6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58A1-B344-4E17-B301-B39C88B86B7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5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41C2-F28F-4F74-8F07-C4A6D74525E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6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6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3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A4D6-F062-4626-96C4-AB795766E48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26ED-6EED-4E2C-B95A-2FD4FE5C09B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9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5938-81CA-43EE-AE95-0DAAA0DF6643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88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5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B0F1-6E82-4C3F-BBF1-E73E1444089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8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8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3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C5C1-55AF-4B44-90DC-C4569F6B797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3BCC-4CDF-4F6B-8B8C-6A4EF996D00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1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3FCA-B7CC-4D09-9D58-4BED9B6C0DE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7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44B8-6DD0-45F6-AF92-20DAF1EAE04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hyperlink" Target="http://imaging.mrc-cbu.cam.ac.uk/statswiki/FAQ/BinomialConfidence/2gpp" TargetMode="External"/><Relationship Id="rId3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1C24-871E-4147-A687-52725149E4F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9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9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737C-7F0E-4E77-970A-F5377BF393F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C0B1-D2AE-44B2-A9AE-0FFF3508E5F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02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D647-04D5-49DD-BB27-A0FE81B8C9B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7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09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FD2C-7F40-4A0A-9042-49238FD1BB8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4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A45F-1FBC-4CDF-977B-105BECFDEBA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0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8850-D923-459B-ADF7-5C49A717A6B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0C7C-0AFB-44E5-953B-852BB059A8B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1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32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BD4A-A1A1-49F7-8D95-F4E4B59EC15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E17C-C7A7-4284-8D14-93B7A5A1536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43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83D8-6F51-479D-86D0-ECE1B9A6272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50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61ED-35E5-4B3F-BC69-65C6F1E522D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6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25 October 201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7842-29E6-4439-9465-53337ADEB19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5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4DAE-7893-4BE0-A6F1-082C86276A1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E431-AFA1-4EE5-BEBA-8A594BE2395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46DF-A2CF-41D0-B443-A699D6FB182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215F-A42D-4CA2-BEFE-EA4B8C42624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7935-DE0B-466F-860D-3B6DC106976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81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FE24-6826-4E53-93A2-C0C30307601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87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88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89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0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1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2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93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4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5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6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197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198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199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0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1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2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8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9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0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1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12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13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4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C68A-BA7F-4385-9D28-3F14A684C9E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20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1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9689-49A5-421B-AD31-6795CA66FFB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7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57E9-D7E5-44F6-9556-D90653D83FB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3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159D-29F5-474A-90E4-15FB1EA8BDF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CCD7-D805-4127-BC4C-849CD697464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9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81FF-9665-49E4-BC72-2920902DB60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5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6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A101-B6EC-426F-A87B-DB57148EA69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51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52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F5C7-A298-45FC-A0BE-C6D4AF0AA91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58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58E1-179D-46C3-95AE-55039179DA0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26CF-FA7B-4662-A4B6-002A380574A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70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2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3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588A-602E-4E66-A9E2-C99BD5AEA77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5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6" name="Text Box 4"/>
          <p:cNvSpPr/>
          <p:nvPr/>
        </p:nvSpPr>
        <p:spPr>
          <a:xfrm>
            <a:off x="1303200" y="3952800"/>
            <a:ext cx="769140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505B-152F-4A31-AFEE-B954F62C554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1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FD41-C1FB-4D2D-94B8-4F0E8480CA9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7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9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0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1862-4F26-491B-9073-E32E733C7CD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92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93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4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B13C-4688-447C-867F-C7B8E586BED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6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7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A95F-C751-4E30-976E-67003C3AFCD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885B-21AD-4D02-A8AD-78740E0F9F2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5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7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ACD0-44CC-47CE-A649-B96DF7D36BE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3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5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0ADE-A34E-444A-AD22-9E3038424A7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21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3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DFDA-5EBC-41EB-A5C7-58B97930244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28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0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13D7-95DA-4DFA-82D0-3EC8F66D390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472C-FC38-4FC9-8BC6-354B9116F1E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41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42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3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4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5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76F1-CD90-412B-B2E0-886B850C4F4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50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51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410F-CB65-43A5-B33D-23C65F2DD6E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7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58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59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BCA7-F9D7-4DB3-80D1-CF3548548FA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6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67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68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9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E21A-C605-45DD-AB39-6EC6ABE5E23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01D1-4667-46D4-883E-291A1E468F3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5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6" name="Rectangle 7"/>
          <p:cNvSpPr/>
          <p:nvPr/>
        </p:nvSpPr>
        <p:spPr>
          <a:xfrm>
            <a:off x="271440" y="4076640"/>
            <a:ext cx="8612280" cy="18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</a:t>
            </a:r>
            <a:r>
              <a:rPr b="0" lang="en-GB" sz="20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lso McNemar-Bowker tests for changes in times in a k x k tab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8A95-752E-4F35-961F-283576AE09B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16F9-B453-4507-B405-89FBD34D517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7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24C2-652E-451E-BDA9-7C665E52D80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93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4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5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7961-F012-4D62-AD9F-4369FAE657E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B282-5621-4F37-BE7D-43AD0561A2B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5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6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07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EEC3-AC83-4497-95F6-93BAE4BEC13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69E5-FF2C-4A80-B715-A303973E82F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B32C-758E-4BA6-B2A7-E3C593F5A58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EC67-FA27-4D16-9BCE-CDA0E5572A1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6D38-5B14-4928-A040-FD832DC5044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B4E5-68BD-4B48-B5DF-6A987EB22E6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CDAC-5534-4E7A-AF25-C9B979E91A1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21-09-29T12:16:41Z</dcterms:modified>
  <cp:revision>123</cp:revision>
  <dc:subject/>
  <dc:title>Aims and Objectives</dc:title>
</cp:coreProperties>
</file>